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5FA-909F-4892-A172-14DBFB87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B7A-AD75-4174-88D0-72282AC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ADD-3617-4DFB-9A5B-2D4B718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82F-0AC7-4211-8A67-3888B9D2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C4E-CB09-4C30-8B2B-334A560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B48-E4EA-47B9-9F88-F3EA376A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26E-267B-49E0-B150-D5D2268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D54-6422-4CD5-84BF-3BD918DE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BA6-A110-414F-903F-4D4B0DF9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736-2747-42A7-A689-F581741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303-CA2D-4961-B4ED-7775AFC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8BE-2DC1-446B-B8A1-C077731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C47-EBAE-4546-AE6A-3710221AA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 para la Ven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antha*Greene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a6a6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Cocina/Comed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09880" cy="272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962160" cy="28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14479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 cocina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estufa, el horno de microondas, los armarios y má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72428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comedor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mesa de com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ac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S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95680" cy="298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5105520"/>
            <a:ext cx="449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 sala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sofá, la televisión, el reproductor de DVD y m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143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958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5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Patio Trase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388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56272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patio tiene una vista bonita del jard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6172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jardín tiene flores boni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a7a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Pisc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4890960" cy="325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53341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piscina tiene una temperatura muy b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8c8"/>
            </a:gs>
            <a:gs pos="50000">
              <a:srgbClr val="ccffff"/>
            </a:gs>
            <a:gs pos="100000">
              <a:srgbClr val="a0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Gara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58672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garaje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instru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e74"/>
            </a:gs>
            <a:gs pos="100000">
              <a:srgbClr val="f4a6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Dormitorio Princip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52432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38104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76720" y="4648320"/>
            <a:ext cx="2695320" cy="169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31240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l dormitorio principals tiene </a:t>
            </a:r>
            <a:r>
              <a:rPr b="0" lang="es-ES" sz="2400" spc="-1" strike="noStrike">
                <a:solidFill>
                  <a:srgbClr val="ffffff"/>
                </a:solidFill>
                <a:latin typeface="Script MT Bold"/>
              </a:rPr>
              <a:t>la cama, el armario y los caj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5a98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Dormito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76228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048120" y="4800600"/>
            <a:ext cx="2743200" cy="166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25146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dormitos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cama, el armario y los ca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d2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Ba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666880" cy="200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Bellagio Bathroom"/>
          <p:cNvPicPr/>
          <p:nvPr/>
        </p:nvPicPr>
        <p:blipFill>
          <a:blip r:embed="rId2"/>
          <a:stretch/>
        </p:blipFill>
        <p:spPr>
          <a:xfrm>
            <a:off x="5791320" y="304920"/>
            <a:ext cx="2990880" cy="1992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1240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banos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lavabo, la bañera, el inodoro y la du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25Z</dcterms:created>
  <dc:creator>greenesam</dc:creator>
  <dc:description/>
  <dc:language>en-US</dc:language>
  <cp:lastModifiedBy>greenesam</cp:lastModifiedBy>
  <dcterms:modified xsi:type="dcterms:W3CDTF">2012-05-22T17:22:34Z</dcterms:modified>
  <cp:revision>6</cp:revision>
  <dc:subject/>
  <dc:title>Slide 1</dc:title>
</cp:coreProperties>
</file>